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ickey.wav" ContentType="audio/x-wav"/>
  <Override PartName="/ppt/media/image5.png" ContentType="image/png"/>
  <Override PartName="/ppt/media/CARBRAKE.WAV" ContentType="audio/x-wav"/>
  <Override PartName="/ppt/media/DRIVEBY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DRUMROLL.WAV" ContentType="audio/x-wav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2B0-DCEA-49F4-8C9B-ADF5DA27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49C-3C41-43FA-86E1-C9176137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0EE-BA64-4AF0-BE6A-E76FC262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716-79FD-4073-A5FD-F380F3B2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300-914D-4E75-BBF3-E81D4AFD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AFC-61D3-4AC8-AC5A-B5305805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5AC-BBD0-4281-9BBC-E196E21C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B48-E011-462D-A782-2DBF22B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E79-072D-4D1A-8A53-F7D4AE4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E45-C769-403D-AC7D-3E0E10E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74E-F6E1-41C9-A139-2B1190B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354-4201-4B26-8586-C8033B5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9FDD-52AB-4442-BCCA-4C425D2C7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icke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219320" y="2438280"/>
            <a:ext cx="7315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Flying Through Quotation Mark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762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stroorbiter"/>
          <p:cNvPicPr/>
          <p:nvPr/>
        </p:nvPicPr>
        <p:blipFill>
          <a:blip r:embed="rId1"/>
          <a:stretch/>
        </p:blipFill>
        <p:spPr>
          <a:xfrm>
            <a:off x="380880" y="2286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>
            <a:hlinkClick r:id="" action="ppaction://hlinkshowjump?jump=nextslide"/>
          </p:cNvPr>
          <p:cNvSpPr/>
          <p:nvPr/>
        </p:nvSpPr>
        <p:spPr>
          <a:xfrm>
            <a:off x="7848720" y="5943600"/>
            <a:ext cx="890640" cy="585720"/>
          </a:xfrm>
          <a:custGeom>
            <a:avLst/>
            <a:gdLst>
              <a:gd name="textAreaLeft" fmla="*/ 37800 w 890640"/>
              <a:gd name="textAreaRight" fmla="*/ 852840 w 8906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2838" h="21600">
                <a:moveTo>
                  <a:pt x="0" y="0"/>
                </a:moveTo>
                <a:lnTo>
                  <a:pt x="32838" y="0"/>
                </a:lnTo>
                <a:lnTo>
                  <a:pt x="32838" y="21600"/>
                </a:lnTo>
                <a:lnTo>
                  <a:pt x="0" y="21600"/>
                </a:lnTo>
                <a:close/>
              </a:path>
              <a:path fill="lightenLess" w="32838" h="21600">
                <a:moveTo>
                  <a:pt x="0" y="0"/>
                </a:moveTo>
                <a:lnTo>
                  <a:pt x="32838" y="0"/>
                </a:lnTo>
                <a:lnTo>
                  <a:pt x="31438" y="1400"/>
                </a:lnTo>
                <a:lnTo>
                  <a:pt x="1400" y="1400"/>
                </a:lnTo>
                <a:close/>
              </a:path>
              <a:path fill="darken" w="32838" h="21600">
                <a:moveTo>
                  <a:pt x="32838" y="0"/>
                </a:moveTo>
                <a:lnTo>
                  <a:pt x="32838" y="21600"/>
                </a:lnTo>
                <a:lnTo>
                  <a:pt x="31438" y="20200"/>
                </a:lnTo>
                <a:lnTo>
                  <a:pt x="31438" y="1400"/>
                </a:lnTo>
                <a:close/>
              </a:path>
              <a:path fill="darkenLess" w="32838" h="21600">
                <a:moveTo>
                  <a:pt x="32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38" y="20200"/>
                </a:lnTo>
                <a:close/>
              </a:path>
              <a:path fill="lighten" w="32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38" h="21600">
                <a:moveTo>
                  <a:pt x="9412" y="3794"/>
                </a:moveTo>
                <a:lnTo>
                  <a:pt x="23425" y="10800"/>
                </a:lnTo>
                <a:lnTo>
                  <a:pt x="9412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3526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eggy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ungleCruiseMH"/>
          <p:cNvPicPr/>
          <p:nvPr/>
        </p:nvPicPr>
        <p:blipFill>
          <a:blip r:embed="rId1"/>
          <a:stretch/>
        </p:blipFill>
        <p:spPr>
          <a:xfrm>
            <a:off x="685800" y="60948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715000" y="533520"/>
            <a:ext cx="2971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 marks are used to show someone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62120" y="41911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ildren said excitedly, “Let’s ride on the Jungle Cruis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772400" y="5867280"/>
            <a:ext cx="966960" cy="662040"/>
          </a:xfrm>
          <a:custGeom>
            <a:avLst/>
            <a:gdLst>
              <a:gd name="textAreaLeft" fmla="*/ 42840 w 966960"/>
              <a:gd name="textAreaRight" fmla="*/ 924120 w 9669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31543" y="0"/>
                </a:lnTo>
                <a:lnTo>
                  <a:pt x="31543" y="21600"/>
                </a:lnTo>
                <a:lnTo>
                  <a:pt x="0" y="21600"/>
                </a:lnTo>
                <a:close/>
              </a:path>
              <a:path fill="lightenLess" w="31543" h="21600">
                <a:moveTo>
                  <a:pt x="0" y="0"/>
                </a:moveTo>
                <a:lnTo>
                  <a:pt x="31543" y="0"/>
                </a:lnTo>
                <a:lnTo>
                  <a:pt x="30143" y="1400"/>
                </a:lnTo>
                <a:lnTo>
                  <a:pt x="1400" y="1400"/>
                </a:lnTo>
                <a:close/>
              </a:path>
              <a:path fill="darken" w="31543" h="21600">
                <a:moveTo>
                  <a:pt x="31543" y="0"/>
                </a:moveTo>
                <a:lnTo>
                  <a:pt x="31543" y="21600"/>
                </a:lnTo>
                <a:lnTo>
                  <a:pt x="30143" y="20200"/>
                </a:lnTo>
                <a:lnTo>
                  <a:pt x="30143" y="1400"/>
                </a:lnTo>
                <a:close/>
              </a:path>
              <a:path fill="darkenLess" w="31543" h="21600">
                <a:moveTo>
                  <a:pt x="31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3" y="20200"/>
                </a:lnTo>
                <a:close/>
              </a:path>
              <a:path fill="lighten" w="31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3" h="21600">
                <a:moveTo>
                  <a:pt x="8765" y="3794"/>
                </a:moveTo>
                <a:lnTo>
                  <a:pt x="22778" y="10800"/>
                </a:lnTo>
                <a:lnTo>
                  <a:pt x="876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ickeyToontownMH"/>
          <p:cNvPicPr/>
          <p:nvPr/>
        </p:nvPicPr>
        <p:blipFill>
          <a:blip r:embed="rId1"/>
          <a:stretch/>
        </p:blipFill>
        <p:spPr>
          <a:xfrm>
            <a:off x="1828800" y="365760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143000" y="990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Place a comma after the word that lets you know the person is saying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2438280"/>
            <a:ext cx="815328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ickey said happily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“Come visit Disney World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848720" y="60199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2362320" y="228600"/>
            <a:ext cx="399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Quotation Mark Ru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c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arade"/>
          <p:cNvPicPr/>
          <p:nvPr/>
        </p:nvPicPr>
        <p:blipFill>
          <a:blip r:embed="rId1"/>
          <a:stretch/>
        </p:blipFill>
        <p:spPr>
          <a:xfrm>
            <a:off x="1447920" y="3683160"/>
            <a:ext cx="5589360" cy="3174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3520" y="30492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2)  Insert quotation mark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st word of the person’s exact words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unctuation mark at the end of the person’s las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4400" y="2514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rowd exclaimed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 wonderful parade!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3049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3) Capitalize the first word of the person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SpaceMountainMH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838080" y="50292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itlyn screamed, “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ofy, this is a blas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>
            <a:hlinkClick r:id="" action="ppaction://hlinkshowjump?jump=nextslide"/>
          </p:cNvPr>
          <p:cNvSpPr/>
          <p:nvPr/>
        </p:nvSpPr>
        <p:spPr>
          <a:xfrm>
            <a:off x="8077320" y="5943600"/>
            <a:ext cx="738000" cy="585720"/>
          </a:xfrm>
          <a:custGeom>
            <a:avLst/>
            <a:gdLst>
              <a:gd name="textAreaLeft" fmla="*/ 37800 w 738000"/>
              <a:gd name="textAreaRight" fmla="*/ 700200 w 738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12" h="21600">
                <a:moveTo>
                  <a:pt x="0" y="0"/>
                </a:moveTo>
                <a:lnTo>
                  <a:pt x="27212" y="0"/>
                </a:lnTo>
                <a:lnTo>
                  <a:pt x="27212" y="21600"/>
                </a:lnTo>
                <a:lnTo>
                  <a:pt x="0" y="21600"/>
                </a:lnTo>
                <a:close/>
              </a:path>
              <a:path fill="lightenLess" w="27212" h="21600">
                <a:moveTo>
                  <a:pt x="0" y="0"/>
                </a:moveTo>
                <a:lnTo>
                  <a:pt x="27212" y="0"/>
                </a:lnTo>
                <a:lnTo>
                  <a:pt x="25812" y="1400"/>
                </a:lnTo>
                <a:lnTo>
                  <a:pt x="1400" y="1400"/>
                </a:lnTo>
                <a:close/>
              </a:path>
              <a:path fill="darken" w="27212" h="21600">
                <a:moveTo>
                  <a:pt x="27212" y="0"/>
                </a:moveTo>
                <a:lnTo>
                  <a:pt x="27212" y="21600"/>
                </a:lnTo>
                <a:lnTo>
                  <a:pt x="25812" y="20200"/>
                </a:lnTo>
                <a:lnTo>
                  <a:pt x="25812" y="1400"/>
                </a:lnTo>
                <a:close/>
              </a:path>
              <a:path fill="darkenLess" w="27212" h="21600">
                <a:moveTo>
                  <a:pt x="2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12" y="20200"/>
                </a:lnTo>
                <a:close/>
              </a:path>
              <a:path fill="lighten" w="2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12" h="21600">
                <a:moveTo>
                  <a:pt x="6600" y="3794"/>
                </a:moveTo>
                <a:lnTo>
                  <a:pt x="20613" y="10800"/>
                </a:lnTo>
                <a:lnTo>
                  <a:pt x="6600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DRIVEB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g_mickey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533520" y="3808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886200" y="76212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mistakes in Mickey’s quo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5800" y="4572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Rockwell Extra Bold"/>
              </a:rPr>
              <a:t>Mickey said, Come see me at Disney World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ireworks"/>
          <p:cNvPicPr/>
          <p:nvPr/>
        </p:nvPicPr>
        <p:blipFill>
          <a:blip r:embed="rId1"/>
          <a:stretch/>
        </p:blipFill>
        <p:spPr>
          <a:xfrm>
            <a:off x="3429000" y="2133720"/>
            <a:ext cx="5437080" cy="443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33520" y="380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ckey said,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Come see me at Disney Worl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281952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Yeah, great job, you did it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7:36:42Z</dcterms:created>
  <dc:creator>Pre-Installed-User</dc:creator>
  <dc:description/>
  <dc:language>en-US</dc:language>
  <cp:lastModifiedBy>Teacher</cp:lastModifiedBy>
  <dcterms:modified xsi:type="dcterms:W3CDTF">2012-03-25T21:31:24Z</dcterms:modified>
  <cp:revision>4</cp:revision>
  <dc:subject/>
  <dc:title>No Slide Title</dc:title>
</cp:coreProperties>
</file>